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C6CC-9DD3-41A1-9B85-78A412058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D505-E2DB-4DC6-B98F-DE12EAC1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2D81-A891-425B-A85C-9AF262C1C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0199-0272-44AD-9A40-385A1BDD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7B35-4BB9-4FFE-B2FA-99417C78E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E631-6E8C-4AFE-AD67-333C2DBA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8E6A-661E-4CCA-97FB-3542311E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31F3-9AC3-4CB4-9112-C25189EC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B574-06EB-4103-A661-843F020D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BC72-299C-452A-A5B2-FE800760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5F70-A097-4801-8F78-CF270586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A9A9-963E-431D-9620-00AD626D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9700-4BFD-47F4-9A56-CE02EC2D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4DC7-2D69-444B-8F1D-711344B0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34B5-FD8B-4D4D-A34E-1D79D892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8428-B2AB-4E76-BE18-DFC7DA6E2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5135-209F-4183-A65C-B759350FB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5432-F35C-4B93-9EA1-941C8F83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14F3-853C-4E32-9D72-FDA7BDF5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9DC1-3EC9-4A87-A868-1CC73A93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CBBA-2A8C-49E7-9561-3A3A06CA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FA16-721B-477A-B231-2CE41198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DA85-6E42-4B83-BDA6-B2D050EE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C55C-F194-4425-B5B4-2784CC87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5843-006C-4528-B8EE-FE0E401B9B3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6D2F-0251-49F2-9E48-3BF11D5115E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The Negative externalities of fast food Consumption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32000" y="558936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y John Hugh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3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352680" y="2533680"/>
            <a:ext cx="2438640" cy="1341360"/>
          </a:xfrm>
          <a:prstGeom prst="rect">
            <a:avLst/>
          </a:prstGeom>
          <a:ln w="0">
            <a:noFill/>
          </a:ln>
        </p:spPr>
      </p:pic>
    </p:spTree>
  </p:cSld>
  <p:transition advTm="3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3468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Negative externalities of Fast Food Consump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195640" y="1989000"/>
          <a:ext cx="4403520" cy="35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989000"/>
                    <a:ext cx="4403520" cy="35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2987640" y="2565360"/>
            <a:ext cx="2232000" cy="2016000"/>
          </a:xfrm>
          <a:custGeom>
            <a:avLst/>
            <a:gdLst/>
            <a:ahLst/>
            <a:rect l="l" t="t" r="r" b="b"/>
            <a:pathLst>
              <a:path w="1452" h="1316">
                <a:moveTo>
                  <a:pt x="0" y="1316"/>
                </a:moveTo>
                <a:cubicBezTo>
                  <a:pt x="332" y="1266"/>
                  <a:pt x="665" y="1217"/>
                  <a:pt x="907" y="998"/>
                </a:cubicBezTo>
                <a:cubicBezTo>
                  <a:pt x="1149" y="779"/>
                  <a:pt x="1399" y="174"/>
                  <a:pt x="1452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79640" y="342900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f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27640" y="5229360"/>
            <a:ext cx="57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f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24360" y="2565360"/>
            <a:ext cx="1942920" cy="1368360"/>
          </a:xfrm>
          <a:custGeom>
            <a:avLst/>
            <a:gdLst/>
            <a:ahLst/>
            <a:rect l="l" t="t" r="r" b="b"/>
            <a:pathLst>
              <a:path w="1451" h="998">
                <a:moveTo>
                  <a:pt x="0" y="0"/>
                </a:moveTo>
                <a:cubicBezTo>
                  <a:pt x="196" y="325"/>
                  <a:pt x="393" y="650"/>
                  <a:pt x="635" y="816"/>
                </a:cubicBezTo>
                <a:cubicBezTo>
                  <a:pt x="877" y="982"/>
                  <a:pt x="1383" y="998"/>
                  <a:pt x="1451" y="9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16360" y="3645000"/>
            <a:ext cx="0" cy="151272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56000" y="3645000"/>
            <a:ext cx="216036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5661000"/>
            <a:ext cx="5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2349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MC=SM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96000" y="3716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6000">
    <p:blinds dir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Negative externalities of Fast Food Consump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195640" y="1989000"/>
          <a:ext cx="4403520" cy="35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989000"/>
                    <a:ext cx="4403520" cy="35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2987640" y="2565360"/>
            <a:ext cx="2376360" cy="2087640"/>
          </a:xfrm>
          <a:custGeom>
            <a:avLst/>
            <a:gdLst/>
            <a:ahLst/>
            <a:rect l="l" t="t" r="r" b="b"/>
            <a:pathLst>
              <a:path w="1860" h="1224">
                <a:moveTo>
                  <a:pt x="0" y="0"/>
                </a:moveTo>
                <a:cubicBezTo>
                  <a:pt x="208" y="329"/>
                  <a:pt x="416" y="658"/>
                  <a:pt x="726" y="862"/>
                </a:cubicBezTo>
                <a:cubicBezTo>
                  <a:pt x="1036" y="1066"/>
                  <a:pt x="1792" y="1171"/>
                  <a:pt x="1860" y="122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87640" y="2565360"/>
            <a:ext cx="2232000" cy="2016000"/>
          </a:xfrm>
          <a:custGeom>
            <a:avLst/>
            <a:gdLst/>
            <a:ahLst/>
            <a:rect l="l" t="t" r="r" b="b"/>
            <a:pathLst>
              <a:path w="1452" h="1316">
                <a:moveTo>
                  <a:pt x="0" y="1316"/>
                </a:moveTo>
                <a:cubicBezTo>
                  <a:pt x="332" y="1266"/>
                  <a:pt x="665" y="1217"/>
                  <a:pt x="907" y="998"/>
                </a:cubicBezTo>
                <a:cubicBezTo>
                  <a:pt x="1149" y="779"/>
                  <a:pt x="1399" y="174"/>
                  <a:pt x="1452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11640" y="4221000"/>
            <a:ext cx="0" cy="93672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56000" y="4221000"/>
            <a:ext cx="165564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50920" y="3429000"/>
            <a:ext cx="64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f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27640" y="5157720"/>
            <a:ext cx="57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f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24360" y="2565360"/>
            <a:ext cx="1942920" cy="1368360"/>
          </a:xfrm>
          <a:custGeom>
            <a:avLst/>
            <a:gdLst/>
            <a:ahLst/>
            <a:rect l="l" t="t" r="r" b="b"/>
            <a:pathLst>
              <a:path w="1451" h="998">
                <a:moveTo>
                  <a:pt x="0" y="0"/>
                </a:moveTo>
                <a:cubicBezTo>
                  <a:pt x="196" y="325"/>
                  <a:pt x="393" y="650"/>
                  <a:pt x="635" y="816"/>
                </a:cubicBezTo>
                <a:cubicBezTo>
                  <a:pt x="877" y="982"/>
                  <a:pt x="1383" y="998"/>
                  <a:pt x="1451" y="9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16360" y="3645000"/>
            <a:ext cx="0" cy="151272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56000" y="3645000"/>
            <a:ext cx="216036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5661000"/>
            <a:ext cx="5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24000" y="4005360"/>
            <a:ext cx="57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515772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2349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MC=SM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40360" y="3789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92720" y="4437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plan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 a result of consumption, spillover costs such as increase public healthcare costs are lumped onto third parties (the government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10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plan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social marginal benefit is less than the private marginal benefit of consumption. This has lead to fast food being over consumed relative to the social optimu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10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plan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refore, fast food goods are underpriced and there will be a negative externality of this over consumption that will result in a dead weight loss of economic welfare, shown by triangle ABC on the grap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10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ead weight loss to economy as a result of over consumption of fast food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124000" y="2205000"/>
          <a:ext cx="4403880" cy="35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205000"/>
                    <a:ext cx="4403880" cy="3595680"/>
                  </a:xfrm>
                  <a:prstGeom prst="rect">
                    <a:avLst/>
                  </a:prstGeom>
                  <a:ln w="9360">
                    <a:solidFill>
                      <a:srgbClr val="0066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2987640" y="2565360"/>
            <a:ext cx="2376360" cy="2087640"/>
          </a:xfrm>
          <a:custGeom>
            <a:avLst/>
            <a:gdLst/>
            <a:ahLst/>
            <a:rect l="l" t="t" r="r" b="b"/>
            <a:pathLst>
              <a:path w="1860" h="1224">
                <a:moveTo>
                  <a:pt x="0" y="0"/>
                </a:moveTo>
                <a:cubicBezTo>
                  <a:pt x="208" y="329"/>
                  <a:pt x="416" y="658"/>
                  <a:pt x="726" y="862"/>
                </a:cubicBezTo>
                <a:cubicBezTo>
                  <a:pt x="1036" y="1066"/>
                  <a:pt x="1792" y="1171"/>
                  <a:pt x="1860" y="122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987640" y="2565360"/>
            <a:ext cx="2232000" cy="2016000"/>
          </a:xfrm>
          <a:custGeom>
            <a:avLst/>
            <a:gdLst/>
            <a:ahLst/>
            <a:rect l="l" t="t" r="r" b="b"/>
            <a:pathLst>
              <a:path w="1452" h="1316">
                <a:moveTo>
                  <a:pt x="0" y="1316"/>
                </a:moveTo>
                <a:cubicBezTo>
                  <a:pt x="332" y="1266"/>
                  <a:pt x="665" y="1217"/>
                  <a:pt x="907" y="998"/>
                </a:cubicBezTo>
                <a:cubicBezTo>
                  <a:pt x="1149" y="779"/>
                  <a:pt x="1399" y="174"/>
                  <a:pt x="1452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11640" y="4221000"/>
            <a:ext cx="0" cy="93672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56000" y="4221000"/>
            <a:ext cx="165564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050920" y="3429000"/>
            <a:ext cx="64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f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27640" y="5157720"/>
            <a:ext cx="57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f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24360" y="2565360"/>
            <a:ext cx="1942920" cy="1368360"/>
          </a:xfrm>
          <a:custGeom>
            <a:avLst/>
            <a:gdLst/>
            <a:ahLst/>
            <a:rect l="l" t="t" r="r" b="b"/>
            <a:pathLst>
              <a:path w="1451" h="998">
                <a:moveTo>
                  <a:pt x="0" y="0"/>
                </a:moveTo>
                <a:cubicBezTo>
                  <a:pt x="196" y="325"/>
                  <a:pt x="393" y="650"/>
                  <a:pt x="635" y="816"/>
                </a:cubicBezTo>
                <a:cubicBezTo>
                  <a:pt x="877" y="982"/>
                  <a:pt x="1383" y="998"/>
                  <a:pt x="1451" y="9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16360" y="3645000"/>
            <a:ext cx="0" cy="151272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56000" y="3645000"/>
            <a:ext cx="216036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00000" y="5661000"/>
            <a:ext cx="5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24000" y="4005360"/>
            <a:ext cx="57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515772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19640" y="2349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MC=SM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40360" y="3789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92720" y="4437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716360" y="364500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56000" y="6308640"/>
            <a:ext cx="0" cy="0"/>
          </a:xfrm>
          <a:prstGeom prst="line">
            <a:avLst/>
          </a:prstGeom>
          <a:ln w="7632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3860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16360" y="3429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4328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blinds dir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7T03:05:36Z</dcterms:created>
  <dc:creator>Tim</dc:creator>
  <dc:description/>
  <dc:language>en-US</dc:language>
  <cp:lastModifiedBy>Tim</cp:lastModifiedBy>
  <dcterms:modified xsi:type="dcterms:W3CDTF">2008-07-24T08:23:33Z</dcterms:modified>
  <cp:revision>7</cp:revision>
  <dc:subject/>
  <dc:title>The Negative externalities of fast food Consumption</dc:title>
</cp:coreProperties>
</file>